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1C4D3-A2D5-47B8-B0C0-421007252952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ymbol zastępczy numeru slajdu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9CD66-F061-4644-BEF1-BC14095A066B}" type="slidenum">
              <a:rPr b="0" lang="pl-P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CDB1-F587-4AED-B2EA-E33F5F807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2DCD-BC62-4827-97DE-6CA7DE005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105C-1A82-47F2-8502-FA65ECF80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FC3E-2F20-429B-8ADE-E1A080B52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853FF-5BA6-4F58-A297-83705F54C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C5FE4-ADC9-4ADE-AEC1-5B3D006EE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D390A-CDDC-4E76-9427-D346C1074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5E66A-404E-45C8-9D58-23F1DB1DF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F6B3F-8583-4E84-9972-8A6772742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C87B6-0355-47B8-8E43-381C7D73F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73EFC-07FF-44EF-98BE-7EBE9FEE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ADB8-9A2A-496E-9D04-350E60EE7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1130A-D4FF-43F2-AAA1-705607F5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1977F-A4EB-47EC-937E-07732C7C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DD923-9BAA-462F-B2AF-35C0AE833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E1B95-CC34-4337-B9F1-4874480BC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31960-6354-496E-8A95-106D915F1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159C-2A61-4D62-9C23-3A7AEB25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8D11-C304-42B3-88ED-192B3C2F9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187D-3185-48DC-BD7A-C6D33A33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74FD-7A46-4600-ACAB-3F47F334C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DF40-385E-4E59-8C82-0ABF864A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A7D1-9DF9-47B7-97F3-BFC42C48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B61E-1A40-4072-9CB7-1E4A8293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ba0023"/>
                </a:gs>
                <a:gs pos="100000">
                  <a:srgbClr val="8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ba0023"/>
                </a:gs>
                <a:gs pos="50000">
                  <a:srgbClr val="800000"/>
                </a:gs>
                <a:gs pos="100000">
                  <a:srgbClr val="ba002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ba0023"/>
                </a:gs>
                <a:gs pos="100000">
                  <a:srgbClr val="8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ba0023"/>
                </a:gs>
                <a:gs pos="100000">
                  <a:srgbClr val="8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ba0023"/>
                </a:gs>
                <a:gs pos="100000">
                  <a:srgbClr val="8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ba0023"/>
                </a:gs>
                <a:gs pos="100000">
                  <a:srgbClr val="8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ba0023"/>
                </a:gs>
                <a:gs pos="100000">
                  <a:srgbClr val="8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5543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24ADE-13C9-4F57-94EA-6148D50F8069}" type="slidenum"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ba0023"/>
                </a:gs>
                <a:gs pos="100000">
                  <a:srgbClr val="8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ba0023"/>
                </a:gs>
                <a:gs pos="50000">
                  <a:srgbClr val="800000"/>
                </a:gs>
                <a:gs pos="100000">
                  <a:srgbClr val="ba002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ba0023"/>
                </a:gs>
                <a:gs pos="100000">
                  <a:srgbClr val="8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ba0023"/>
                </a:gs>
                <a:gs pos="100000">
                  <a:srgbClr val="8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ba0023"/>
                </a:gs>
                <a:gs pos="100000">
                  <a:srgbClr val="8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ba0023"/>
                </a:gs>
                <a:gs pos="100000">
                  <a:srgbClr val="8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ba0023"/>
                </a:gs>
                <a:gs pos="100000">
                  <a:srgbClr val="8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5543d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755B1-B3A1-463A-9629-DA59D9849581}" type="slidenum"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ffff99"/>
                </a:solidFill>
                <a:latin typeface="Bookman Old Style"/>
              </a:rPr>
              <a:t>PROFILAKTYKA</a:t>
            </a:r>
            <a:r>
              <a:rPr b="0" lang="pl-PL" sz="48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ba0023"/>
                </a:solidFill>
                <a:latin typeface="Bookman Old Style"/>
              </a:rPr>
              <a:t>HIV AID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44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99"/>
                </a:solidFill>
                <a:latin typeface="Arial"/>
              </a:rPr>
              <a:t>HIV/AIDS I SEKS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rostokąt 2"/>
          <p:cNvSpPr/>
          <p:nvPr/>
        </p:nvSpPr>
        <p:spPr>
          <a:xfrm>
            <a:off x="900000" y="-1603440"/>
            <a:ext cx="73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rzed zakażeniem HIV w 100 proc. chroni abstynencja seksualna. Jednakże nie jest to opcja możliwa dla wszystkich. Jeśli w życiu człowieka pojawia się seks, wówczas trzeba pamiętać, że istnieje też HIV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rostokąt 3"/>
          <p:cNvSpPr/>
          <p:nvPr/>
        </p:nvSpPr>
        <p:spPr>
          <a:xfrm>
            <a:off x="755640" y="1700280"/>
            <a:ext cx="770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rzed zakażeniem HIV w 100 proc. chroni abstynencja seksualna. Jednakże nie jest to opcja możliwa dla wszystkich. Jeśli w życiu człowieka pojawia się seks, wówczas trzeba pamiętać, że istnieje też HIV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Najwięcej wirusa w organizmie osoby nim zakażonej jest kolejno we krwi, w nasieniu mężczyzn i w wydzielinach narządów płciowych kobiet. Podczas kontaktu seksualnego możliwe jest przeniesienie zakażenia na partnera seksualneg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4612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99"/>
                </a:solidFill>
                <a:latin typeface="Arial"/>
              </a:rPr>
              <a:t>HIV/AIDS I SEKS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8" name="Prostokąt 3"/>
          <p:cNvSpPr/>
          <p:nvPr/>
        </p:nvSpPr>
        <p:spPr>
          <a:xfrm>
            <a:off x="546120" y="1557360"/>
            <a:ext cx="7986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HIV nie jest najbardziej zakaźnym wirusem, dzięki czemu nie każdy kontakt seksualny z osobą zakażoną musi skończyć się przeniesieniem zakażenia na partnera seksualnego. Wiadomo jednak, że pewne techniki seksualne są bardziej ryzykown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ontakty analne (doodbytnicze) pociągają za sobą największe ryzyko zarówno dla strony „biernej”, jak i „czynnej” (śluzówka odbytu nie jest fizjologicznie przystosowana do aktywności seksualnej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ontakty waginalne (dopochwowe) są bardziej ryzykowne dla kobiet, niż dla mężczyzn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ontakty oralne nie są tak bezpieczne, jak sądzono na początku epidemii AIDS. Wiadomo już, że ryzyko z nim związane jest mniejsze, niż w przypadku kontaktów waginalnych, jednak wiadomo także, iż są one bardziej ryzykowne dla osób, których jama ustna będzie miała kontakt z nasieniem lub krwią zawierającymi wiru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99"/>
                </a:solidFill>
                <a:latin typeface="Bookman Old Style"/>
              </a:rPr>
              <a:t>KONTAKTY SEKSUALNE, </a:t>
            </a:r>
            <a:br>
              <a:rPr sz="4000"/>
            </a:br>
            <a:r>
              <a:rPr b="1" lang="pl-PL" sz="4000" spc="-1" strike="noStrike">
                <a:solidFill>
                  <a:srgbClr val="ffff99"/>
                </a:solidFill>
                <a:latin typeface="Bookman Old Style"/>
              </a:rPr>
              <a:t>A ZAKAŻENIA KOBIET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Kobiety zakażają się łatwiej. Wynika to </a:t>
            </a:r>
            <a:br>
              <a:rPr sz="3200"/>
            </a:b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z budowy ich ciała. Posiadają większa powierzchnię błony śluzowej narządów płciowy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Więcej wirusa HIV znajduje się </a:t>
            </a:r>
            <a:br>
              <a:rPr sz="3200"/>
            </a:b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w wydzielinach mężczyzn niż kobie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Nasienie po wytrysku pozostaje </a:t>
            </a:r>
            <a:br>
              <a:rPr sz="3200"/>
            </a:b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w narządach kobiety, co wydłuża okres jego kontaktu z błoną śluzow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99"/>
                </a:solidFill>
                <a:latin typeface="Arial"/>
              </a:rPr>
              <a:t>SYTUACJE SPRZYJAJĄCE SZERZENIU SIĘ HIV </a:t>
            </a:r>
            <a:br>
              <a:rPr sz="2800"/>
            </a:br>
            <a:r>
              <a:rPr b="1" lang="pl-PL" sz="2800" spc="-1" strike="noStrike">
                <a:solidFill>
                  <a:srgbClr val="ffff99"/>
                </a:solidFill>
                <a:latin typeface="Arial"/>
              </a:rPr>
              <a:t>W KONTAKTACH SEKSUALNYCH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2087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Seks bez zabezpieczen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Częsta zmiana partnerów seksualny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Prostytucja (seks bez zabezpieczeni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Przygodne kontakty seksual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Młody wiek dziewczą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Seks podczas miesiączk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Wspólne gadżety seksual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Gwałt (tabletki gwałtu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99"/>
                </a:solidFill>
                <a:latin typeface="Bookman Old Style"/>
              </a:rPr>
              <a:t>DROGI ZAKAŻENIA - KREW </a:t>
            </a:r>
            <a:r>
              <a:rPr b="1" lang="pl-PL" sz="2000" spc="-1" strike="noStrike">
                <a:solidFill>
                  <a:srgbClr val="ffff99"/>
                </a:solidFill>
                <a:latin typeface="Bookman Old Style"/>
              </a:rPr>
              <a:t>SYTUACJE SPRZYJAJĄCE ZAKAŻENIU</a:t>
            </a:r>
            <a:r>
              <a:rPr b="0" lang="pl-PL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Do zakażenia poprzez krew może dojść tylko wówczas gdy krew zakażonej osoby trafi do naszego krwiobiegu. Możę się to stać w następujących przypadkach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Transfuzja krwi (od 1987r. zakażenie bardzo mało prawdopodobne w Polsce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reparaty krwiopochodne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rzeszczepy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Hemofilia (od 1992r. nie zarejestrowano żadnego przypadk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Niesterylny sprzęt medyczny (odsetek zakażonych mniejszy niż 1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99"/>
                </a:solidFill>
                <a:latin typeface="Bookman Old Style"/>
              </a:rPr>
              <a:t>DROGI ZAKAZENIA - KREW  </a:t>
            </a:r>
            <a:r>
              <a:rPr b="1" lang="pl-PL" sz="2000" spc="-1" strike="noStrike">
                <a:solidFill>
                  <a:srgbClr val="ffff99"/>
                </a:solidFill>
                <a:latin typeface="Bookman Old Style"/>
              </a:rPr>
              <a:t>SYTUACJE SPRZYJAJĄCE ZAKAŻENIU</a:t>
            </a:r>
            <a:r>
              <a:rPr b="0" lang="pl-PL" sz="2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229600" cy="42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Przyjmowanie narkotyków drogą dożylną (światło igł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Zabiegi kosmetyczne, tatuaż, pershing, kolczykowanie w nieprofesjonalnych gabineta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Nie przestrzeganie zasad aseptyki w salonach fryzjersko-kosmetyczny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Dentysta, służba zdrowia – sprzęt, zabiegi krwawe bez zabezpieczen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Braterstwo krw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Bijatyk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Ekspozycja zawodowa – służby mundurowe, służba zdrow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Dializ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Kontakt z krwią bez zabezpieczen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Używanie przez wiele osób tej samej golarki, maszynki do golenia, depilato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5144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99"/>
                </a:solidFill>
                <a:latin typeface="Arial"/>
              </a:rPr>
              <a:t>DROGI ZAKAŻENIA – KREW\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rostokąt 2"/>
          <p:cNvSpPr/>
          <p:nvPr/>
        </p:nvSpPr>
        <p:spPr>
          <a:xfrm>
            <a:off x="539640" y="177336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HIV jest dosyć wrażliwy na warunki środowiska, wskutek czego jednorazowy sprzęt medyczny oraz metody sterylizacji stosowane w szpitalach zapobiegają zakażeniom szpitalnym tym wirusem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rodukty medyczne pochodzenia ludzkiego ze stacji krwiodawstwa w Polsce, jak np. preparaty składników krwi, są uważane za bezpieczne. Od wielu lat w Polsce bada się krew krwiodawców metodami molekularnymi wykrywającymi materiał genetyczny HIV oraz wirusów zapalenia wątroby typu B i 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99"/>
                </a:solidFill>
                <a:latin typeface="Bookman Old Style"/>
              </a:rPr>
              <a:t>DROGA WERDYKALNA </a:t>
            </a:r>
            <a:br>
              <a:rPr sz="4000"/>
            </a:br>
            <a:r>
              <a:rPr b="1" lang="pl-PL" sz="4000" spc="-1" strike="noStrike">
                <a:solidFill>
                  <a:srgbClr val="ffff99"/>
                </a:solidFill>
                <a:latin typeface="Bookman Old Style"/>
              </a:rPr>
              <a:t>MATKA-DZIECKO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43624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Wewnątrzmaciczna (przejście wirusa przez łożysko)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Ekspozycja płodu na krew podczas porodu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W okresie okołoporodowym – podczas karmienia piersią ryzyko zakażenia wynosi około 20%, ale wzrasta do 40% w okresie wzmożonej wiremii.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Największe ryzyko zakażenia dziecka jest </a:t>
            </a:r>
            <a:br>
              <a:rPr sz="2000"/>
            </a:b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w okresie 2-4 tygodnia od momentu zakażenia matki i gdy jest w zaawansowanym stadium choroby (okres nasilenia wiremii)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Jest szansa w 98%, że dziecko będzie zdrowe, jeśli zostanie zastosowane leczenie antywirusow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99"/>
                </a:solidFill>
                <a:latin typeface="Bookman Old Style"/>
              </a:rPr>
              <a:t>CO DZIEJE SIĘ </a:t>
            </a:r>
            <a:br>
              <a:rPr sz="4000"/>
            </a:br>
            <a:r>
              <a:rPr b="1" lang="pl-PL" sz="4000" spc="-1" strike="noStrike">
                <a:solidFill>
                  <a:srgbClr val="ffff99"/>
                </a:solidFill>
                <a:latin typeface="Bookman Old Style"/>
              </a:rPr>
              <a:t>PO ZAKAŻENIU HIV?</a:t>
            </a:r>
            <a:br>
              <a:rPr sz="4000"/>
            </a:br>
            <a:r>
              <a:rPr b="1" lang="pl-PL" sz="2000" spc="-1" strike="noStrike">
                <a:solidFill>
                  <a:srgbClr val="ffff99"/>
                </a:solidFill>
                <a:latin typeface="Bookman Old Style"/>
              </a:rPr>
              <a:t>wykres naturalnego przebiegu zakażenia HIV – bez leczenia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42" name="Picture 6" descr="Z PREZ"/>
          <p:cNvPicPr/>
          <p:nvPr/>
        </p:nvPicPr>
        <p:blipFill>
          <a:blip r:embed="rId1"/>
          <a:stretch/>
        </p:blipFill>
        <p:spPr>
          <a:xfrm>
            <a:off x="900000" y="1989000"/>
            <a:ext cx="723276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ff99"/>
                </a:solidFill>
                <a:latin typeface="Bookman Old Style"/>
              </a:rPr>
              <a:t>SAMOPOCZUCIE PO ZAKAŻENIU</a:t>
            </a:r>
            <a:endParaRPr b="0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44" name="Picture 6" descr="DO PREZENT"/>
          <p:cNvPicPr/>
          <p:nvPr/>
        </p:nvPicPr>
        <p:blipFill>
          <a:blip r:embed="rId1"/>
          <a:stretch/>
        </p:blipFill>
        <p:spPr>
          <a:xfrm>
            <a:off x="539640" y="1593720"/>
            <a:ext cx="820908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ff99"/>
                </a:solidFill>
                <a:latin typeface="Bookman Old Style"/>
              </a:rPr>
              <a:t>UMOWA </a:t>
            </a:r>
            <a:r>
              <a:rPr b="1" lang="pl-PL" sz="44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Szanujemy siebie nawzajem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Nie śmiejemy się z wypowiedzi innych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Nie używamy wulgarnego słownictw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Nie zmuszamy nikogo do wyrażania własnych poglądów, opinii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Każdy ma prawo do wyrażania własnego zdania na podejmowany w czasie zajęć temat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Nie obrażamy się i nie urażamy uczuć i godności innych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Jedna osoba mówi, reszta słucha – nie przekszykujemy się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Nie używamy telefonów komórkowych podczas zaję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99"/>
                </a:solidFill>
                <a:latin typeface="Arial"/>
              </a:rPr>
              <a:t>Choroby wskaźnikowe  AIDS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rostokąt 2"/>
          <p:cNvSpPr/>
          <p:nvPr/>
        </p:nvSpPr>
        <p:spPr>
          <a:xfrm>
            <a:off x="324000" y="1484280"/>
            <a:ext cx="8362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Do chorób definiujących AIDS zalicza się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70"/>
                </a:solidFill>
                <a:latin typeface="Arial"/>
              </a:rPr>
              <a:t>infekcje  oportunistyczne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,  czyli  zakażenia  wirusowe, bakteryjne,  grzybicze,  które  dla  osób  z wydolnym układem   immunologicznym   rzadko   bywają chorobotwórcze,  u  osób  z upośledzoną  przez  HIV odpornością wywołują poważne, czasem zagrażające życiu, chorob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70"/>
                </a:solidFill>
                <a:latin typeface="Arial"/>
              </a:rPr>
              <a:t>nowotwory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, które  występują  u  osób  zakażonych HIV częściej i w  innych przedziałach wiekowych  niż w populacji ogólnej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70"/>
                </a:solidFill>
                <a:latin typeface="Arial"/>
              </a:rPr>
              <a:t>zespoły chorobowe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wiązane bezpośrednio z zakażeniem HI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99"/>
                </a:solidFill>
                <a:latin typeface="Arial"/>
              </a:rPr>
              <a:t>Choroby wskaźnikowe  AID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33"/>
                </a:solidFill>
                <a:latin typeface="Arial"/>
              </a:rPr>
              <a:t>1. INFEKCJE OPORTUNISTYCZN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70"/>
                </a:solidFill>
                <a:latin typeface="Arial"/>
              </a:rPr>
              <a:t>bakteryjne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(gruźlica, zakażenie prątkiem ptasim, kiła, nawracająca posocznica salmonellozow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33"/>
                </a:solidFill>
                <a:latin typeface="Arial"/>
              </a:rPr>
              <a:t>wirusowe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(cytomegalia, półpasiec, opryszczka, WZW typ 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33"/>
                </a:solidFill>
                <a:latin typeface="Arial"/>
              </a:rPr>
              <a:t>grzybicze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(kandydoz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33"/>
                </a:solidFill>
                <a:latin typeface="Arial"/>
              </a:rPr>
              <a:t>pierwotniakowe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(pneumocystoza, toksoplazmoz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33"/>
                </a:solidFill>
                <a:latin typeface="Arial"/>
              </a:rPr>
              <a:t>2. NOWOTWORY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:  chłoniaki, mięsak Kaposiego i rak szyjki  macicy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33"/>
                </a:solidFill>
                <a:latin typeface="Arial"/>
              </a:rPr>
              <a:t>3. ZESPOŁY CHOROBOWE WSKAZUJĄCE NA AID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Encefalopatia (inaczej zespół otępienny)  związana z zakażeniem HIV (jednak do rozpoznania HIV koniecznie trzeba wykonać badanie krwi wykrywające przeciwciała anty-HI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espół wyczerpania spowodowany zakażeniem HIV (jednak do rozpoznania HIV koniecznie trzeba wykonać badanie krwi wykrywające przeciwciała anty-HI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99"/>
                </a:solidFill>
                <a:latin typeface="Bookman Old Style"/>
              </a:rPr>
              <a:t>CHOROBY PRZENOSZONE DROGĄ PŁCIOWĄ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ffff00"/>
                </a:solidFill>
                <a:uFillTx/>
                <a:latin typeface="Arial"/>
              </a:rPr>
              <a:t>Bakteryjne</a:t>
            </a:r>
            <a:r>
              <a:rPr b="1" lang="pl-PL" sz="16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Kiła (krętek biały)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Chlamydiozy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Rzeżączka (dwoinka rzeżączki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ffff00"/>
                </a:solidFill>
                <a:uFillTx/>
                <a:latin typeface="Arial"/>
              </a:rPr>
              <a:t>Wirusowe</a:t>
            </a:r>
            <a:r>
              <a:rPr b="1" lang="pl-PL" sz="16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Opryszczka genitalna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Kłykciny kończyste (HPV – wirus brodawczaka ludzkiego, może być przyczyną rozwoju nowotworów)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Wirusowe zapalenie wątroby (wirus HBV)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AIDS (wirus HIV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ffff00"/>
                </a:solidFill>
                <a:uFillTx/>
                <a:latin typeface="Arial"/>
              </a:rPr>
              <a:t>Grzybicz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Kandydoza (drożdżyca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ffff00"/>
                </a:solidFill>
                <a:uFillTx/>
                <a:latin typeface="Arial"/>
              </a:rPr>
              <a:t>Pierwotniakow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5543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Rzęsistkowica ( rzęsistek pochwowy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 u="sng">
                <a:solidFill>
                  <a:srgbClr val="ffff00"/>
                </a:solidFill>
                <a:uFillTx/>
                <a:latin typeface="Arial"/>
              </a:rPr>
              <a:t>Pasożytnicz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Świerzb (świerzbowiec ludzki)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66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Wszawica łonowa (wesz łonowa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ff99"/>
                </a:solidFill>
                <a:latin typeface="Bookman Old Style"/>
              </a:rPr>
              <a:t>RYZYKO ZAKAŻENI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00"/>
                </a:solidFill>
                <a:latin typeface="Arial"/>
              </a:rPr>
              <a:t>Przed zakażeniem wirusem HIV drogą płciową chroni </a:t>
            </a:r>
            <a:r>
              <a:rPr b="0" lang="pl-PL" sz="3200" spc="-1" strike="noStrike" u="sng">
                <a:solidFill>
                  <a:srgbClr val="ffff00"/>
                </a:solidFill>
                <a:uFillTx/>
                <a:latin typeface="Arial"/>
              </a:rPr>
              <a:t>wyłączni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ABSTYNENCJA SEKSUALN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TRWAŁY ZWIĄZEK Z JEDNYM NIE ZAKAŻONYM PARTNEREM OPART NA WZAJEMNEJ WIERNOŚCI.</a:t>
            </a:r>
            <a:br>
              <a:rPr sz="2400"/>
            </a:br>
            <a:br>
              <a:rPr sz="2400"/>
            </a:br>
            <a:r>
              <a:rPr b="0" lang="pl-PL" sz="3200" spc="-1" strike="noStrike">
                <a:solidFill>
                  <a:srgbClr val="ffff00"/>
                </a:solidFill>
                <a:latin typeface="Arial"/>
              </a:rPr>
              <a:t>Zmniejsza ryzyko zakażeni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PÓŹNIENIE INICJACJI SEKSUALNEJ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UŻYWANIE PREZERWATYW WE WSZYSTKICH PRZYGODNYCH KONTAKTACH SEKSUALNY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ff99"/>
                </a:solidFill>
                <a:latin typeface="Bookman Old Style"/>
              </a:rPr>
              <a:t>PREZERWATYW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Arial"/>
              </a:rPr>
              <a:t>Dla ludzi aktywnych seksualnie prawidłowo użyta prezerwatywa jest dobrym zabezpieczeniem przed ryzykiem zakażenia chorobami przenoszonymi drogą płciową, w tym wirusem HIV oraz niepożądaną ciążą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99"/>
                </a:solidFill>
                <a:latin typeface="Bookman Old Style"/>
              </a:rPr>
              <a:t>ĆWICZENIA - PREZERWATYWY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9152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Gdzie można kupić prezerwatywę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zy prezerwatywy różnią się rozmiarami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Jak długo prezerwatywa nadaje się do użytku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zy prezerwatywa zabezpiecza przed chorobami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zy prezerwatywa zapewnia pełne bezpieczeństw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zy prezerwatywa może być użyta powtórni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zy prezerwatywę łatwo przedziurawić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zy prezerwatywa może zsunąć się podczas stosunku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zy są prezerwatywy dla kobie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Czy prezerwatywę powinno się smarować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ff99"/>
                </a:solidFill>
                <a:latin typeface="Bookman Old Style"/>
              </a:rPr>
              <a:t>Statystyka</a:t>
            </a:r>
            <a:r>
              <a:rPr b="0" lang="pl-PL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 u="sng">
                <a:solidFill>
                  <a:srgbClr val="ffffff"/>
                </a:solidFill>
                <a:uFillTx/>
                <a:latin typeface="Arial"/>
              </a:rPr>
              <a:t>Na świecie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żyje 36,7 mln ludzi z HIV/AID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W 2016r. zakażenie HIV rozpoznano </a:t>
            </a:r>
            <a:br>
              <a:rPr sz="3200"/>
            </a:b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u 1,8mln ludzi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Liczba zgonów z powodu AIDS uległa zmniejszeniu o 48%, ale w 2016r. z powodu HIV/AIDS zmarło około 1mln ludz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ffff99"/>
                </a:solidFill>
                <a:latin typeface="Arial"/>
              </a:rPr>
              <a:t>Statystyk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 u="sng">
                <a:solidFill>
                  <a:srgbClr val="ffffff"/>
                </a:solidFill>
                <a:uFillTx/>
                <a:latin typeface="Arial"/>
              </a:rPr>
              <a:t>Polska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– od wdrożenia badań w 1985r. do 31.07.2018r. stwierdzon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Zakażenie HIV u 23.311 osób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Zachorowań na AIDS u 3.627 osób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Zgonów z powodu AIDS – 1398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 u="sng">
                <a:solidFill>
                  <a:srgbClr val="ffffff"/>
                </a:solidFill>
                <a:uFillTx/>
                <a:latin typeface="Arial"/>
              </a:rPr>
              <a:t>Województwo kujawsko-pomorskie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– od początku rejestracji (tj. od 1985 r.) do 23.11.2018 r. w regionie odnotowan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874 osoby zakażone wirusem HIV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188 zachorowań na AID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94 osoby zmarły z powodu AID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ff99"/>
                </a:solidFill>
                <a:latin typeface="Bookman Old Style"/>
              </a:rPr>
              <a:t>ĆWICZENIE - PRAWNY OBOWIĄZEK POINFORMOWANIA </a:t>
            </a:r>
            <a:br>
              <a:rPr sz="3200"/>
            </a:br>
            <a:r>
              <a:rPr b="1" lang="pl-PL" sz="3200" spc="-1" strike="noStrike">
                <a:solidFill>
                  <a:srgbClr val="ffff99"/>
                </a:solidFill>
                <a:latin typeface="Bookman Old Style"/>
              </a:rPr>
              <a:t>O ZAKAŻENIU HIV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87280" y="1844280"/>
            <a:ext cx="885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Lekarza pierwszego kontraktu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TAK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 N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Lekarza dentystę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TAK    N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Współmałżonka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TAK    N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Najbliższą rodzinę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TAK    N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Domowników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TAK    N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Partnera seksualnego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TAK    N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Pracodawcę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TAK    N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Współpracowników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TAK    N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ff99"/>
                </a:solidFill>
                <a:latin typeface="Bookman Old Style"/>
              </a:rPr>
              <a:t>DEFINICJE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856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6600"/>
                </a:solidFill>
                <a:latin typeface="Bookman Old Style"/>
              </a:rPr>
              <a:t>HIV</a:t>
            </a: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 – ludzki wirus </a:t>
            </a: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         upośledzenia odpornośc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11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l-PL" sz="5400" spc="-1" strike="noStrike">
                <a:solidFill>
                  <a:srgbClr val="ff6600"/>
                </a:solidFill>
                <a:latin typeface="Bookman Old Style"/>
              </a:rPr>
              <a:t>AIDS</a:t>
            </a:r>
            <a:r>
              <a:rPr b="0" lang="pl-PL" sz="4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zespół nabytego </a:t>
            </a: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4400" spc="-1" strike="noStrike">
                <a:solidFill>
                  <a:srgbClr val="ffffff"/>
                </a:solidFill>
                <a:latin typeface="Arial"/>
              </a:rPr>
              <a:t>   upośledzenia odpornośc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ffff99"/>
                </a:solidFill>
                <a:latin typeface="Bookman Old Style"/>
              </a:rPr>
              <a:t>WIRUS HIV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HIV - </a:t>
            </a:r>
            <a:r>
              <a:rPr b="1" lang="pl-PL" sz="16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uman </a:t>
            </a:r>
            <a:r>
              <a:rPr b="1" lang="pl-PL" sz="16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mmunodeficiency </a:t>
            </a:r>
            <a:r>
              <a:rPr b="1" lang="pl-PL" sz="16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irus czyli  ludzku wirus upośledzenia odporności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Organizm ludzki wyposażony jest w system obronny tzw. system immunologiczny, który zwalcza atakujące nas infekcje i choroby. </a:t>
            </a:r>
            <a:br>
              <a:rPr sz="1600"/>
            </a:b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Wirus HIV po wniknięciu do organizmu powoli osłabia ten system, doprowadzając </a:t>
            </a:r>
            <a:br>
              <a:rPr sz="1600"/>
            </a:b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go do ostatecznego wyniszczenia. Gdy system immunologiczny zostanie zniszczony, a tym samym  obniżona zostanie jego zdolność do zwalczania zakażeń, zaczynają pojawiać się choroby, z którymi sprawny system immunologiczny skutecznie by sobie poradził tzw. choroby oportunistyczne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Wirus HIV przez wiele lat może uszkadzać system immunologiczny, zanim osoba zakażona zacznie chorować.</a:t>
            </a:r>
            <a:br>
              <a:rPr sz="1600"/>
            </a:b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Zazwyczaj osoba zakażona wirusem HIV ma dobre samopoczucie i nie wie , że jest zakażona.</a:t>
            </a:r>
            <a:br>
              <a:rPr sz="1600"/>
            </a:b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To że ktoś jest zakażony wirusem HIV nie oznacza, że jest  chory na AIDS. O AIDS mówimy wówczas gdy pojawią się choroby charakterystyczne dla tej jednostki chorobowej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ff99"/>
                </a:solidFill>
                <a:latin typeface="Bookman Old Style"/>
              </a:rPr>
              <a:t>CHOROBA AID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AIDS nie jest samodzielną jednostką chorobową. Stanowi zespół objawów wielu chorób pojawiających się w wyniku upośledzenia odporności. Jest końcowym stadium zakażenia HIV, występującym zazwyczaj po wielu latach trwania infekcji u osób, które o swoim zakażeniu nie wiedz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Osoby zdiagnowane, mogą korzystać z nowoczesnego leczenia zapobiegającego wystąpieniu AIDS. Terapia jest tym bardziej skuteczna, im szybciej zostanie rozpoczęta. </a:t>
            </a:r>
            <a:r>
              <a:rPr b="0" lang="pl-PL" sz="2400" spc="-1" strike="noStrike">
                <a:solidFill>
                  <a:srgbClr val="ffff70"/>
                </a:solidFill>
                <a:latin typeface="Arial"/>
              </a:rPr>
              <a:t>Dlatego warto robić testy na HIV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AIDS jest nadal chorobą śmiertelną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ff99"/>
                </a:solidFill>
                <a:latin typeface="Bookman Old Style"/>
              </a:rPr>
              <a:t>MATERIAŁ ZAKAŹNY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irus HIV znajduje się we wszystkich płynach ustrojowych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Zakaźne są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rew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ydzieliny narządów płciowych zakażonych kobiet i mężczyzn (sperma, wydzielina pochwowa, odbytowa), mleko matki (dla noworodka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łyn mózgowo-rdzeniow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ffff00"/>
                </a:solidFill>
                <a:latin typeface="Arial"/>
              </a:rPr>
              <a:t>Tylko poprzez te płyny ustrojowe może dojść do zakażenia HIV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Nie zakaźne są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pot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ślina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łzy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mocz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wymiociny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ka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pl-PL" sz="1800" spc="-1" strike="noStrike">
                <a:solidFill>
                  <a:srgbClr val="ffff00"/>
                </a:solidFill>
                <a:latin typeface="Arial"/>
              </a:rPr>
              <a:t>Materiał ten staje się zakaźny gdy znajduje się w nim Krew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ff99"/>
                </a:solidFill>
                <a:latin typeface="Bookman Old Style"/>
              </a:rPr>
              <a:t>Ćwiczenia </a:t>
            </a:r>
            <a:br>
              <a:rPr sz="4000"/>
            </a:br>
            <a:r>
              <a:rPr b="1" lang="pl-PL" sz="4000" spc="-1" strike="noStrike">
                <a:solidFill>
                  <a:srgbClr val="ffff99"/>
                </a:solidFill>
                <a:latin typeface="Bookman Old Style"/>
              </a:rPr>
              <a:t>– w jakich sytuacjach nie zarazimy się wirusem HIV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18" name="Picture 5" descr="aids go prezent"/>
          <p:cNvPicPr/>
          <p:nvPr/>
        </p:nvPicPr>
        <p:blipFill>
          <a:blip r:embed="rId1"/>
          <a:stretch/>
        </p:blipFill>
        <p:spPr>
          <a:xfrm>
            <a:off x="1979640" y="1916280"/>
            <a:ext cx="5327640" cy="48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ff99"/>
                </a:solidFill>
                <a:latin typeface="Bookman Old Style"/>
              </a:rPr>
              <a:t>DROGI ZAKAŻENIA</a:t>
            </a:r>
            <a:endParaRPr b="0" lang="en-US" sz="5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8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6600"/>
                </a:solidFill>
                <a:latin typeface="Bookman Old Style"/>
              </a:rPr>
              <a:t>KONTAKTY SEKSUALNE – </a:t>
            </a:r>
            <a:br>
              <a:rPr sz="2800"/>
            </a:br>
            <a:r>
              <a:rPr b="1" lang="pl-PL" sz="2800" spc="-1" strike="noStrike">
                <a:solidFill>
                  <a:srgbClr val="ffffff"/>
                </a:solidFill>
                <a:latin typeface="Bookman Old Style"/>
              </a:rPr>
              <a:t>(stosunek dopochwowy i analny oraz seks oraln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6600"/>
                </a:solidFill>
                <a:latin typeface="Bookman Old Style"/>
              </a:rPr>
              <a:t>KRE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6600"/>
                </a:solidFill>
                <a:latin typeface="Bookman Old Style"/>
              </a:rPr>
              <a:t>DROGA WERTYKALNA MATKA – DZIECK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6600"/>
                </a:solidFill>
                <a:latin typeface="Bookman Old Style"/>
              </a:rPr>
              <a:t>Ćwiczenie (podział na 3 grup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ff99"/>
                </a:solidFill>
                <a:latin typeface="Bookman Old Style"/>
              </a:rPr>
              <a:t>KONTAKTY SEKSUALN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427280" y="2204640"/>
            <a:ext cx="45370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Arial"/>
              </a:rPr>
              <a:t>Zakażane są wszystkie wydzieliny układu płciowego męskiego </a:t>
            </a:r>
            <a:br>
              <a:rPr sz="4000"/>
            </a:br>
            <a:r>
              <a:rPr b="0" lang="pl-PL" sz="4000" spc="-1" strike="noStrike">
                <a:solidFill>
                  <a:srgbClr val="ffffff"/>
                </a:solidFill>
                <a:latin typeface="Arial"/>
              </a:rPr>
              <a:t>i żeńskiego.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9" descr="model w żyle"/>
          <p:cNvPicPr/>
          <p:nvPr/>
        </p:nvPicPr>
        <p:blipFill>
          <a:blip r:embed="rId1"/>
          <a:stretch/>
        </p:blipFill>
        <p:spPr>
          <a:xfrm>
            <a:off x="324000" y="2349360"/>
            <a:ext cx="3838320" cy="36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4T08:11:46Z</dcterms:created>
  <dc:creator>knowak</dc:creator>
  <dc:description/>
  <dc:language>en-US</dc:language>
  <cp:lastModifiedBy>hbielawska</cp:lastModifiedBy>
  <dcterms:modified xsi:type="dcterms:W3CDTF">2020-01-23T09:04:23Z</dcterms:modified>
  <cp:revision>121</cp:revision>
  <dc:subject/>
  <dc:title>PROFILAKTYKA </dc:title>
</cp:coreProperties>
</file>